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FAF-8B66-4620-ABE2-2D799FB8A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4B2-8EBE-44A2-9FB1-AFBAD31EF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14A-FFDC-46EA-B307-77C6840D1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77A-88DF-44AA-BA93-B20DEA5F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DB4-DC56-4B88-8990-807C7570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520-94DE-4C7F-BEC1-67E85DC5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859-FD6F-4C91-8B64-1FA72077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4817-BBD4-42F6-AEDD-9C4FF73E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8A0-89AE-44FC-B764-25E74560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E0ED-C149-4A9D-88FE-FDE979F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7C1-7136-4203-AE1C-5B8F1C5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C64-2112-4172-860C-9D37BEB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FD92-AC0A-4995-ADDE-09D7C50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7D3B-3BCE-4A42-8E1E-89F3F8D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241-1E59-47DB-97F9-B9D6974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CAD-B32D-4B1A-9FE2-9141982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D324-4C9B-4452-9393-9DFF38F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7ACE-D77D-4F9E-A5D5-037F276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C7F-12F5-4385-90D5-7EC89000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8A11-BCEB-4FD2-932F-CCA5845D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8915-CC13-4E5E-B2F6-569BFF2E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6230-8762-42E3-97A6-F8FFE2D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826A-0518-41BD-AF53-C185E1C0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4668-15BB-4ADB-BBD8-49BA4A1B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18E6-73D9-44EA-98AE-E79418D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281-B7C8-44DF-8B8F-D56802B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D04D-B68D-47FE-8669-5C50EA4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6D28-E1F4-4CE8-B6F4-0B1F40D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0B7E-8ECB-478C-9C07-2532D11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27C8-7FD8-44C3-9B92-D4EAD08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4036-80CA-42DE-BF54-063016C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7D0B-E5BF-42CE-89AC-F8E7F763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335E-9BA2-495F-952E-AE9F8D6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00D7-4479-4BE8-8C18-B3BDE80E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5276-259F-4314-A318-6C9E477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8952-3B0B-449E-9EC5-481C609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589-AC82-4AA7-9E3F-B078FB0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971C-5EED-47B1-914D-675B481E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72C4-873D-4959-9B58-10E8198F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5D7E-09FC-4093-AA3D-D8F341B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B6F0-5C37-43DA-AA48-E0B8624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5B54-6420-4D77-BBBB-855181C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15323-960C-42D8-8CC3-64BE452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D06F-46CC-43DD-99C6-8DA3412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DC73-673A-44BB-8C73-127BF11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E077-5712-46A1-9830-8524DB3B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0E62-B10D-4574-9874-8BC4D4DF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EFF-2B61-49CF-9457-7674F546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76B0-029C-4698-9BC3-FE16F99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741F-91DD-45BB-B072-D439FA7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A544-9FF8-4EF9-88A4-BA8563A3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5C85-5375-46A7-814A-52EC938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EDCC-28DF-4A16-BFC5-AECC79C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65FD-FA19-440C-AF61-74AA34D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5CFC-C719-4B48-942D-1EB667E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C311-A290-4381-A0D6-838073F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FA98-9AF9-4331-905B-F9901AB4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856A-1D8F-446E-A30D-384A38C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76B-DF4D-4994-B170-48BDEAB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775B-AAB7-4DBC-88A8-BE4E4164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D6D0-23A5-4F51-BC6D-1E79F534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4F05-835A-4386-A850-CB02F80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B770-9768-494F-9532-E896D0B2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E030-F67B-48BC-9096-DAECEF3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90A7-E136-4950-A0F6-99B2BB44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A03D-E239-44F7-BE58-C8651821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0A67-09F1-4C4C-8AE9-2BA3015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8A530-9826-4A02-9F38-4604994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64C1-1712-4172-9F2D-D355843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090-0EB4-486D-8E43-DC196E0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F719A-64DC-4AD0-A20C-AF673B3A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781C-B036-4EEC-A444-08980BF6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A4C1-ED57-407C-8811-2BF6E37C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DDD0-595F-4B67-A5B5-5A29C13F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C4382-C2FD-410A-A1FC-749F2D6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35AFE-58AB-4573-881C-283BF8E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F5E67-C1E3-43EB-B66A-ACEE4865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C24F-4850-4304-8C30-A0EBC63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A95DB-4970-448E-A24A-E021956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2AFA-48BC-4A95-A4E5-F9FA0A7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549-5A21-4028-B53B-400E5F0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C68B-C4E2-415D-AB20-DF5BF4C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B1BAE-93C3-4ACE-ABF8-0275B78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9F29-846F-46C2-B44A-59D81FA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43D9-5264-4EA5-A4F4-957A6474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FEB8-F64A-409C-AD98-F7E55D0E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ED7-E1A7-4EBA-8970-DD0BE02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024-52CA-4F6E-BFC0-1EE7C5D32B1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8A2B-E349-42AB-BE23-91BE84EA0E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4B3-1047-415F-A464-7C7F76CF05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E8B-9BB0-4840-A166-74355E0BD4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D1D-E779-4514-88FF-D29CD129D2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93A-DD18-44CE-BFEE-3A536F77A1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D9C-5ECE-44B2-8FA2-F3DF3D57E7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ItjtWd0Sp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e9X4sDHeo4&amp;feature=fvs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rtilization and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2" descr="http://www.visualphotos.com/photo/1x3747571/fertilization_fertilization_colored_scanning_p8552.jpg"/>
          <p:cNvPicPr/>
          <p:nvPr/>
        </p:nvPicPr>
        <p:blipFill>
          <a:blip r:embed="rId1"/>
          <a:stretch/>
        </p:blipFill>
        <p:spPr>
          <a:xfrm>
            <a:off x="1066680" y="2971800"/>
            <a:ext cx="4114800" cy="2832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ttp://worms.zoology.wisc.edu/urchins/su_egg_%26_sperm.gif"/>
          <p:cNvPicPr/>
          <p:nvPr/>
        </p:nvPicPr>
        <p:blipFill>
          <a:blip r:embed="rId2"/>
          <a:stretch/>
        </p:blipFill>
        <p:spPr>
          <a:xfrm>
            <a:off x="6095880" y="2133720"/>
            <a:ext cx="260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9" descr="p1018a"/>
          <p:cNvPicPr/>
          <p:nvPr/>
        </p:nvPicPr>
        <p:blipFill>
          <a:blip r:embed="rId1"/>
          <a:stretch/>
        </p:blipFill>
        <p:spPr>
          <a:xfrm>
            <a:off x="2733840" y="380880"/>
            <a:ext cx="4825800" cy="4314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p1018arrows"/>
          <p:cNvPicPr/>
          <p:nvPr/>
        </p:nvPicPr>
        <p:blipFill>
          <a:blip r:embed="rId2"/>
          <a:stretch/>
        </p:blipFill>
        <p:spPr>
          <a:xfrm>
            <a:off x="3805200" y="1766880"/>
            <a:ext cx="2284560" cy="1025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0" descr="p1018b"/>
          <p:cNvPicPr/>
          <p:nvPr/>
        </p:nvPicPr>
        <p:blipFill>
          <a:blip r:embed="rId3"/>
          <a:stretch/>
        </p:blipFill>
        <p:spPr>
          <a:xfrm>
            <a:off x="2743200" y="380880"/>
            <a:ext cx="4799160" cy="42912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9"/>
          <p:cNvSpPr/>
          <p:nvPr/>
        </p:nvSpPr>
        <p:spPr>
          <a:xfrm>
            <a:off x="7164000" y="2401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0"/>
          <p:cNvSpPr/>
          <p:nvPr/>
        </p:nvSpPr>
        <p:spPr>
          <a:xfrm>
            <a:off x="5448240" y="2440080"/>
            <a:ext cx="17035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1204920" y="101124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tic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1244520" y="1798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t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1273680" y="27432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1236600" y="3625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3011400" y="1227240"/>
            <a:ext cx="1441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 flipV="1">
            <a:off x="2236680" y="2130480"/>
            <a:ext cx="258300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 flipV="1">
            <a:off x="2522520" y="2325240"/>
            <a:ext cx="949320" cy="58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 flipV="1">
            <a:off x="2465280" y="3308040"/>
            <a:ext cx="777960" cy="52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1"/>
          <p:cNvSpPr/>
          <p:nvPr/>
        </p:nvSpPr>
        <p:spPr>
          <a:xfrm>
            <a:off x="1219320" y="5029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mitive streak is where cell grow out of to form mesod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99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ur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47560" y="762120"/>
            <a:ext cx="7499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mation of the C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ock of mesoderm differentiates into notochord – eventually becoming the sp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5" descr="sb7017a2_01"/>
          <p:cNvPicPr/>
          <p:nvPr/>
        </p:nvPicPr>
        <p:blipFill>
          <a:blip r:embed="rId1"/>
          <a:stretch/>
        </p:blipFill>
        <p:spPr>
          <a:xfrm>
            <a:off x="2362320" y="2971800"/>
            <a:ext cx="48765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crest1"/>
          <p:cNvPicPr/>
          <p:nvPr/>
        </p:nvPicPr>
        <p:blipFill>
          <a:blip r:embed="rId1"/>
          <a:stretch/>
        </p:blipFill>
        <p:spPr>
          <a:xfrm>
            <a:off x="992160" y="2933640"/>
            <a:ext cx="6966000" cy="2660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crest2"/>
          <p:cNvPicPr/>
          <p:nvPr/>
        </p:nvPicPr>
        <p:blipFill>
          <a:blip r:embed="rId2"/>
          <a:stretch/>
        </p:blipFill>
        <p:spPr>
          <a:xfrm>
            <a:off x="909720" y="2789280"/>
            <a:ext cx="6910200" cy="2927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4"/>
          <p:cNvSpPr/>
          <p:nvPr/>
        </p:nvSpPr>
        <p:spPr>
          <a:xfrm>
            <a:off x="1361520" y="2496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5132160" y="2532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>
            <a:off x="2354400" y="2892600"/>
            <a:ext cx="880920" cy="87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H="1">
            <a:off x="4147920" y="2822400"/>
            <a:ext cx="1338120" cy="60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3230280" y="57434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o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>
            <a:off x="3884760" y="4844880"/>
            <a:ext cx="1440" cy="96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272880" y="1095480"/>
            <a:ext cx="8642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8596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s the notochord develops, the neural groove changes shape, producing neural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crest2"/>
          <p:cNvPicPr/>
          <p:nvPr/>
        </p:nvPicPr>
        <p:blipFill>
          <a:blip r:embed="rId1"/>
          <a:stretch/>
        </p:blipFill>
        <p:spPr>
          <a:xfrm>
            <a:off x="1676520" y="3048120"/>
            <a:ext cx="6910200" cy="292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rest3"/>
          <p:cNvPicPr/>
          <p:nvPr/>
        </p:nvPicPr>
        <p:blipFill>
          <a:blip r:embed="rId2"/>
          <a:stretch/>
        </p:blipFill>
        <p:spPr>
          <a:xfrm>
            <a:off x="1371600" y="2971800"/>
            <a:ext cx="6664320" cy="35560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1875960" y="25909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832720" y="25146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3124080" y="2971800"/>
            <a:ext cx="10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"/>
          <p:cNvSpPr/>
          <p:nvPr/>
        </p:nvSpPr>
        <p:spPr>
          <a:xfrm flipH="1">
            <a:off x="4572000" y="2971800"/>
            <a:ext cx="1542960" cy="11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183320" y="3200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2286000" y="3505320"/>
            <a:ext cx="59364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787560" y="60199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o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 flipH="1">
            <a:off x="4495680" y="5105520"/>
            <a:ext cx="4608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501480" y="304920"/>
            <a:ext cx="8642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8596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radually, these folds move together to create a neural tube from which the spinal cord and the nervous system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traembryonic Membra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ophoblast and mesoderm continue to develop, forming two membranes called amnion and the chor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mnion develops into a fluid-filled amniotic sac, which cushions and protects the developing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orion forms finger-like projections, connecting mother to fet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39_04_30_01"/>
          <p:cNvPicPr/>
          <p:nvPr/>
        </p:nvPicPr>
        <p:blipFill>
          <a:blip r:embed="rId1"/>
          <a:stretch/>
        </p:blipFill>
        <p:spPr>
          <a:xfrm>
            <a:off x="2590920" y="685800"/>
            <a:ext cx="3562200" cy="5519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424240" y="4343400"/>
            <a:ext cx="725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351160" y="4865760"/>
            <a:ext cx="8128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033720" y="5418000"/>
            <a:ext cx="7542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273400" y="427212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2166840" y="481500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395520" y="5275440"/>
            <a:ext cx="15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4194000" y="439560"/>
            <a:ext cx="1349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5862600" y="846000"/>
            <a:ext cx="871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5862600" y="1557360"/>
            <a:ext cx="1379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4152960" y="37620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tic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5816520" y="803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5830920" y="156672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39_04_30_02"/>
          <p:cNvPicPr/>
          <p:nvPr/>
        </p:nvPicPr>
        <p:blipFill>
          <a:blip r:embed="rId1"/>
          <a:stretch/>
        </p:blipFill>
        <p:spPr>
          <a:xfrm>
            <a:off x="2286000" y="1066680"/>
            <a:ext cx="4978440" cy="43228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1625760" y="1522440"/>
            <a:ext cx="1450800" cy="15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725400" y="4599000"/>
            <a:ext cx="15685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1117440" y="5151600"/>
            <a:ext cx="119088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7227720" y="3786120"/>
            <a:ext cx="987480" cy="13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716280" y="593640"/>
            <a:ext cx="1219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5211720" y="608040"/>
            <a:ext cx="13492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502080" y="614520"/>
            <a:ext cx="16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al portion of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5292720" y="5270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portion of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7216920" y="377676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7227720" y="450684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1225440" y="500364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1325520" y="43164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898560" y="280656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bilic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2120760" y="205596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887400" y="144144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ionic vil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9"/>
          <p:cNvSpPr/>
          <p:nvPr/>
        </p:nvSpPr>
        <p:spPr>
          <a:xfrm>
            <a:off x="1219320" y="578016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orionic villi and uterine lining form the plac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lacen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rves as embryo’s organ for respiration, nourishment,  and excre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tects fetus from many, but not all, harmful subst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es such as HIV and substances such as alcohol pass throug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rst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bryo becomes fetus at eight wee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st major organs and tissues form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mbilical chord develops, connects baby to m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cond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eart can be heard with a stethoscop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ne replaces cartilage that forms the early skelet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ayer of soft hair grows over the fetus’s sk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etus grows and the mother can feel it mov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rtiliz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til this point, we have assumed that the released egg was not fertilized by a spe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if sperm are in the Fallopian tube, there is a chance that the egg will become ferti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rm attaches by finding binding sites on eg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yer containing sites then dissolves, removing possibility of polysperm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ird Trime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etus doubles in ma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an now regulate its body tempera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ntral nervous system and lungs completely devel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Ges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ildbir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ther’s pituitary gland secretes oxytoc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uses rhythmic, involuntary contractions of muscles around uterine wa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known as labo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niotic sac will break (water breaking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ing to cervix expands, convulsions push baby out through vag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he Birth Video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haploid nuclei merge to form diploid zygo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begin to develop even before it reaches the uter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ly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vided into three stag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an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str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ur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mpla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ter fertilization, zygote goes through a series of mitotic divisions, with very little time between 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ches around 64 cells (solid ball), called a moru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rula is not much larger than original single 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gins to hallow out, becomes blatoc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astocyst will secrete digestive enzymes to burrow into uterine lining (recall it should be thickest now) about one week after fertiliz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impla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cause spotting for the fema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ovulation"/>
          <p:cNvPicPr/>
          <p:nvPr/>
        </p:nvPicPr>
        <p:blipFill>
          <a:blip r:embed="rId1"/>
          <a:stretch/>
        </p:blipFill>
        <p:spPr>
          <a:xfrm>
            <a:off x="2098800" y="2505240"/>
            <a:ext cx="5040360" cy="2690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ov1"/>
          <p:cNvPicPr/>
          <p:nvPr/>
        </p:nvPicPr>
        <p:blipFill>
          <a:blip r:embed="rId2"/>
          <a:stretch/>
        </p:blipFill>
        <p:spPr>
          <a:xfrm>
            <a:off x="423720" y="2557440"/>
            <a:ext cx="3103560" cy="1998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ov3"/>
          <p:cNvPicPr/>
          <p:nvPr/>
        </p:nvPicPr>
        <p:blipFill>
          <a:blip r:embed="rId3"/>
          <a:stretch/>
        </p:blipFill>
        <p:spPr>
          <a:xfrm>
            <a:off x="2565360" y="1138320"/>
            <a:ext cx="1225440" cy="2157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ov4"/>
          <p:cNvPicPr/>
          <p:nvPr/>
        </p:nvPicPr>
        <p:blipFill>
          <a:blip r:embed="rId4"/>
          <a:stretch/>
        </p:blipFill>
        <p:spPr>
          <a:xfrm>
            <a:off x="3251160" y="1384200"/>
            <a:ext cx="1638360" cy="1575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ov0"/>
          <p:cNvPicPr/>
          <p:nvPr/>
        </p:nvPicPr>
        <p:blipFill>
          <a:blip r:embed="rId5"/>
          <a:stretch/>
        </p:blipFill>
        <p:spPr>
          <a:xfrm>
            <a:off x="3040200" y="2155680"/>
            <a:ext cx="2906640" cy="2703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ov5"/>
          <p:cNvPicPr/>
          <p:nvPr/>
        </p:nvPicPr>
        <p:blipFill>
          <a:blip r:embed="rId6"/>
          <a:stretch/>
        </p:blipFill>
        <p:spPr>
          <a:xfrm>
            <a:off x="3768840" y="1685880"/>
            <a:ext cx="2030400" cy="1498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ov6"/>
          <p:cNvPicPr/>
          <p:nvPr/>
        </p:nvPicPr>
        <p:blipFill>
          <a:blip r:embed="rId7"/>
          <a:stretch/>
        </p:blipFill>
        <p:spPr>
          <a:xfrm>
            <a:off x="4681440" y="1600200"/>
            <a:ext cx="2824200" cy="1708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ov7"/>
          <p:cNvPicPr/>
          <p:nvPr/>
        </p:nvPicPr>
        <p:blipFill>
          <a:blip r:embed="rId8"/>
          <a:stretch/>
        </p:blipFill>
        <p:spPr>
          <a:xfrm>
            <a:off x="5970600" y="2182680"/>
            <a:ext cx="3173400" cy="2360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5"/>
          <p:cNvSpPr/>
          <p:nvPr/>
        </p:nvSpPr>
        <p:spPr>
          <a:xfrm>
            <a:off x="1803240" y="2654280"/>
            <a:ext cx="9540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ov2"/>
          <p:cNvPicPr/>
          <p:nvPr/>
        </p:nvPicPr>
        <p:blipFill>
          <a:blip r:embed="rId9"/>
          <a:stretch/>
        </p:blipFill>
        <p:spPr>
          <a:xfrm>
            <a:off x="1573200" y="1496880"/>
            <a:ext cx="1486080" cy="2113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7"/>
          <p:cNvSpPr/>
          <p:nvPr/>
        </p:nvSpPr>
        <p:spPr>
          <a:xfrm>
            <a:off x="1066680" y="5638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astocyst cells can begin to different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66320" y="456840"/>
            <a:ext cx="4203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uster of cells form inside blastoc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nner cell mass will become the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ophoblast surrounding this will become the placenta and umbilic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http://3.bp.blogspot.com/-9c-98ct1KwY/TdWGf8bmecI/AAAAAAAAAFc/jkR1bHuosJQ/s1600/Blastocyst.gif"/>
          <p:cNvPicPr/>
          <p:nvPr/>
        </p:nvPicPr>
        <p:blipFill>
          <a:blip r:embed="rId1"/>
          <a:stretch/>
        </p:blipFill>
        <p:spPr>
          <a:xfrm>
            <a:off x="5181480" y="380880"/>
            <a:ext cx="38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astr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M differentiates into three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cotoderm – skin and nervous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oderm – lining of digestive track and internal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oderm – inner tissue and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6:25:52Z</dcterms:created>
  <dc:creator>ED18</dc:creator>
  <dc:description/>
  <dc:language>en-US</dc:language>
  <cp:lastModifiedBy>ED18</cp:lastModifiedBy>
  <dcterms:modified xsi:type="dcterms:W3CDTF">2012-05-31T12:57:18Z</dcterms:modified>
  <cp:revision>4</cp:revision>
  <dc:subject/>
  <dc:title>Fertilization and Development</dc:title>
</cp:coreProperties>
</file>